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2AA6-B6D4-428C-97AF-4919276D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08A0-0511-4F99-8EA5-91CA774E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3C5E-4243-474B-BEF8-3D69DFE9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00F4-E4B4-4CE7-AF0D-59CAAB88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B6316-FF31-409B-AE3A-5D78FF03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A9110-605C-4AAF-83EA-0B7518E6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EE40F-AEC9-4A6A-A13F-944775AA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4D90D-1223-4788-916B-6E15EBAC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8F3C3-1F17-4B96-8EED-AF75A707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ED972-7371-4316-843F-906B8747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1F1EB-0BD7-4E07-AE11-7B002CA1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5AE8-6DA7-477C-A9F9-CDDD97F7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0DE28-3C15-49AD-BAFE-94C9C9D3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AB663-297A-4DF6-8A33-1A114B47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6222B-9E97-4502-8BE0-63DBA9C2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7A9EA-8AB5-46AE-AA1C-ACBEF3D9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45AA5-A2B4-4C7E-B847-2EC45E65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3EF9-E87D-4E99-BF3F-3DC44641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7A46-1181-4DFF-864D-B50B90BC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0A73-807F-43FD-89E4-56727CF5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66EA-DF51-4465-8260-045D9CB3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0DBC-9ECC-49DC-B552-02F7355E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0EBC-413B-4F4E-8D7F-478C3A6A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7B10-19B2-4108-A8FC-2827AC92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1600-3045-4B59-8CC7-E5D09EAF6A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7B94-5095-483E-B457-9AA3CE66079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480" y="1356840"/>
            <a:ext cx="8643960" cy="4000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800000"/>
                </a:solidFill>
                <a:latin typeface="Arial Black"/>
              </a:rPr>
              <a:t>Водные ресурсы и человек</a:t>
            </a:r>
            <a:br>
              <a:rPr sz="6600"/>
            </a:br>
            <a:r>
              <a:rPr b="0" i="1" lang="ru-RU" sz="6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00002c"/>
                </a:solidFill>
                <a:latin typeface="Tahoma"/>
              </a:rPr>
              <a:t>Вода – бесценная жидкость, дающая жизнь всему живом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ahoma"/>
              </a:rPr>
              <a:t>Водные ресурсы – это та часть поверхностных и подземных вод, которая может быть использована для снабжения водой населения и для  различных видов человеческой деятельности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i-main-pic" descr="Картинка 35 из 535"/>
          <p:cNvPicPr/>
          <p:nvPr/>
        </p:nvPicPr>
        <p:blipFill>
          <a:blip r:embed="rId1"/>
          <a:stretch/>
        </p:blipFill>
        <p:spPr>
          <a:xfrm>
            <a:off x="1403280" y="2058840"/>
            <a:ext cx="626436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33"/>
                </a:solidFill>
                <a:latin typeface="Tahoma"/>
              </a:rPr>
              <a:t>ВОДНЫЕ РЕСУР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5500800" y="428760"/>
            <a:ext cx="335736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c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285840" y="5000760"/>
            <a:ext cx="371484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c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5072040" y="5072040"/>
            <a:ext cx="364320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c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0" name="Прямая со стрелкой 15"/>
          <p:cNvCxnSpPr/>
          <p:nvPr/>
        </p:nvCxnSpPr>
        <p:spPr>
          <a:xfrm flipH="1" flipV="1">
            <a:off x="1785600" y="1642320"/>
            <a:ext cx="1929600" cy="1143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1" name="Прямая со стрелкой 17"/>
          <p:cNvCxnSpPr/>
          <p:nvPr/>
        </p:nvCxnSpPr>
        <p:spPr>
          <a:xfrm flipV="1">
            <a:off x="5143320" y="1571040"/>
            <a:ext cx="1929240" cy="1215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2" name="Прямая со стрелкой 19"/>
          <p:cNvCxnSpPr/>
          <p:nvPr/>
        </p:nvCxnSpPr>
        <p:spPr>
          <a:xfrm flipH="1">
            <a:off x="1785600" y="3570840"/>
            <a:ext cx="192960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3" name="Прямая со стрелкой 21"/>
          <p:cNvCxnSpPr/>
          <p:nvPr/>
        </p:nvCxnSpPr>
        <p:spPr>
          <a:xfrm>
            <a:off x="5072040" y="3642840"/>
            <a:ext cx="221544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4" name="Прямоугольник 3"/>
          <p:cNvSpPr/>
          <p:nvPr/>
        </p:nvSpPr>
        <p:spPr>
          <a:xfrm>
            <a:off x="214200" y="500040"/>
            <a:ext cx="335772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c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33"/>
                </a:solidFill>
                <a:latin typeface="Tahoma"/>
              </a:rPr>
              <a:t>ВОДНЫЕ РЕСУР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5500800" y="428760"/>
            <a:ext cx="335736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Водные пу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285840" y="5000760"/>
            <a:ext cx="371484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Энергия рек, приливов (ГЭС, ПЭС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5072040" y="5072040"/>
            <a:ext cx="364320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Промышленность и сельское хозяйство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9" name="Прямая со стрелкой 15"/>
          <p:cNvCxnSpPr/>
          <p:nvPr/>
        </p:nvCxnSpPr>
        <p:spPr>
          <a:xfrm flipH="1" flipV="1">
            <a:off x="1785600" y="1642320"/>
            <a:ext cx="1929600" cy="1143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0" name="Прямая со стрелкой 17"/>
          <p:cNvCxnSpPr/>
          <p:nvPr/>
        </p:nvCxnSpPr>
        <p:spPr>
          <a:xfrm flipV="1">
            <a:off x="5143320" y="1571040"/>
            <a:ext cx="1929240" cy="1215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1" name="Прямая со стрелкой 19"/>
          <p:cNvCxnSpPr/>
          <p:nvPr/>
        </p:nvCxnSpPr>
        <p:spPr>
          <a:xfrm flipH="1">
            <a:off x="1785600" y="3570840"/>
            <a:ext cx="192960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2" name="Прямая со стрелкой 21"/>
          <p:cNvCxnSpPr/>
          <p:nvPr/>
        </p:nvCxnSpPr>
        <p:spPr>
          <a:xfrm>
            <a:off x="5072040" y="3642840"/>
            <a:ext cx="221544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03" name="Прямоугольник 3"/>
          <p:cNvSpPr/>
          <p:nvPr/>
        </p:nvSpPr>
        <p:spPr>
          <a:xfrm>
            <a:off x="214200" y="500040"/>
            <a:ext cx="335772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Питье и бытовые продукт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c"/>
                </a:solidFill>
                <a:latin typeface="Tahoma"/>
              </a:rPr>
              <a:t>Использование 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833400"/>
          <a:ext cx="9144000" cy="27464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водопользовани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водопотреблени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216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</a:tbl>
          </a:graphicData>
        </a:graphic>
      </p:graphicFrame>
      <p:sp>
        <p:nvSpPr>
          <p:cNvPr id="106" name="Прямоугольник 4"/>
          <p:cNvSpPr/>
          <p:nvPr/>
        </p:nvSpPr>
        <p:spPr>
          <a:xfrm>
            <a:off x="0" y="385776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00002c"/>
                </a:solidFill>
                <a:latin typeface="Tahoma"/>
              </a:rPr>
              <a:t>Рыбное хозяйство, промышленность, сельское хозяйство, коммунальное хозяйство (вода в квартире), гидроэнергетика (ГЭС), полив улиц, купание в реке, рыбалка на берегу с удочкой, речной транспорт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c"/>
                </a:solidFill>
                <a:latin typeface="Tahoma"/>
              </a:rPr>
              <a:t>Использование 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2000160"/>
          <a:ext cx="9144000" cy="3657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водопользовани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водопотреблени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Рыбное хозяйство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Гидроэнергетика (ГЭС)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Речной транспорт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Купание в реке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Рыбалка на берегу с удочкой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Промышленность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Сельское хозяйство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Коммунальное хозяйство (вода в квартире), полив улиц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Воды - челове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000080"/>
          <a:ext cx="9144000" cy="4108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71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ды для человек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(водные ресурсы)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Человек для вод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Благоприятные для человека свойства водных ресурсов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Неблагоприят-ные для человека свойства водных ресурсов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оложитель-ное влияние, охрана во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трицательное влияние, источники загрязнения и истощен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Воды - челове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1000080"/>
          <a:ext cx="9144000" cy="57722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36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ды для человек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(водные ресурсы)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Человек для вод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Благоприятные для человека свойства водных ресурсов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Неблагоприят-ные для человека свойства водных ресурсов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оложитель-ное влияние, охрана во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трицательное влияние, источники загрязнения и истощен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Питье, водные пути, энергия рек, отдых, использование для промышленных и с/х нужд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Неравномерное размещение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Стихийные бедствия: наводнения, паводки, цунами, ветровые волны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Строительство очистных сооружений, оборотная система водоснабжения, экономия воды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Забор воды из рек и озер для нужд промышленности и с/х. Сплав древесины, загрязнение вод, создание водохранилищ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4:25:57Z</dcterms:created>
  <dc:creator>PC176</dc:creator>
  <dc:description/>
  <dc:language>en-US</dc:language>
  <cp:lastModifiedBy>Карпова МЮ</cp:lastModifiedBy>
  <dcterms:modified xsi:type="dcterms:W3CDTF">2011-12-20T06:46:53Z</dcterms:modified>
  <cp:revision>18</cp:revision>
  <dc:subject/>
  <dc:title>Поверхностные   воды РБ</dc:title>
</cp:coreProperties>
</file>